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12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AF36-3C82-4886-83A5-F23294BEF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ne Morphogenetic Proteins (Bmps) are secreted growth factors that play crucial roles in animal development across the phylogenetic spectr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mp signaling results in the phosphorylation and nuclear translocation of Smads, downstream signal transducers that bind DNA. In Drosophila,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inc finger protein Schnurri (Shn) plays a key role in signaling by the Bmp2/Bmp4 homolog Decapentaplegic (Dpp), by forming a Shn/Smad re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x on defined promoter elements in the brinker (brk) gene. Brk is a transcriptional repressor that downregulates Dpp target ge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a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t al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ment 133, 4025-4034 (200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ne Morphogenetic Proteins (Bmps) are secreted growth factors that play crucial roles in animal development across the phylogenetic spectr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mp signaling results in the phosphorylation and nuclear translocation of Smads, downstream signal transducers that bind DNA. In Drosophila,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inc finger protein Schnurri (Shn) plays a key role in signaling by the Bmp2/Bmp4 homolog Decapentaplegic (Dpp), by forming a Shn/Smad re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x on defined promoter elements in the brinker (brk) gene. Brk is a transcriptional repressor that downregulates Dpp target ge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a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t al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ment 133, 4025-4034 (200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tweak the standard definition of ‘regulates’ to be occurrent-based instead of process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 have been reviewed, can be implemente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 have been reviewed, can be implemente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some relationship (currently undefined) between ‘transcription regulator activity’  and ‘regulation of transcription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ne Morphogenetic Proteins (Bmps) are secreted growth factors that play crucial roles in animal development across the phylogenetic spectr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mp signaling results in the phosphorylation and nuclear translocation of Smads, downstream signal transducers that bind DNA. In Drosophila,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inc finger protein Schnurri (Shn) plays a key role in signaling by the Bmp2/Bmp4 homolog Decapentaplegic (Dpp), by forming a Shn/Smad re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x on defined promoter elements in the brinker (brk) gene. Brk is a transcriptional repressor that downregulates Dpp target ge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a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t al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ment 133, 4025-4034 (200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5600-8EDF-4A53-856F-8EDB98E7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5BCB-391F-4425-928C-27C93907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FA8-ED4E-49BD-AC00-13D845C1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3D10-B71E-4AF9-BB10-F87A0BF8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4B6-FD1C-4623-87A3-4D1EB743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38DA-0ECB-4C52-9A01-AD11E82E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DAE-80B0-4ECF-95D8-7BB34E0F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E415-F9B6-43CE-9BC4-481D195B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A4C-E761-4E0F-BB65-97CF0A76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B680-0A6C-44CB-83FC-1F872089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E7CD-9E9A-4A04-9B5C-254AE802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4DC0-BC19-4D27-A45C-DA4E38CB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A77B-2801-41CB-9AD2-2800F3F0E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‘regulates’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, David, Ta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aontology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3102120" cy="1219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267080" y="1905120"/>
            <a:ext cx="4362480" cy="3612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al Trans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08040" y="225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219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cascade of processes by which a signal interacts with a receptor, causing a change in the level or activity of a second messenger or other downstream target, and </a:t>
            </a:r>
            <a:r>
              <a:rPr b="0" lang="en-US" sz="1700" spc="-1" strike="noStrike">
                <a:solidFill>
                  <a:srgbClr val="00ff00"/>
                </a:solidFill>
                <a:latin typeface="Arial"/>
              </a:rPr>
              <a:t>ultimately effecting a change in the functioning of the cel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4648320" cy="4046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MP Signaling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441043" r="0" b="0"/>
          <a:stretch/>
        </p:blipFill>
        <p:spPr>
          <a:xfrm>
            <a:off x="380880" y="2268360"/>
            <a:ext cx="3581640" cy="3446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38480" y="4114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76400" y="990720"/>
            <a:ext cx="70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ological objective of BMP signaling is to regulate tran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3640" y="179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3716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0" t="2957" r="0" b="0"/>
          <a:stretch/>
        </p:blipFill>
        <p:spPr>
          <a:xfrm>
            <a:off x="5173560" y="1523880"/>
            <a:ext cx="2522520" cy="4997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MP Signaling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39625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76400" y="990720"/>
            <a:ext cx="70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ological objective of BMP signaling is to regulate tran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3640" y="179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3716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2957" r="0" b="0"/>
          <a:stretch/>
        </p:blipFill>
        <p:spPr>
          <a:xfrm>
            <a:off x="76320" y="1447920"/>
            <a:ext cx="2522520" cy="4997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rcRect l="9328" t="4579" r="517" b="0"/>
          <a:stretch/>
        </p:blipFill>
        <p:spPr>
          <a:xfrm>
            <a:off x="3429000" y="2590920"/>
            <a:ext cx="5638680" cy="2701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Intraontology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function to molec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relationship between enzyme regulators and the enzyme activities themsel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change MF ontology from being a strict is_a hierarc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or activity (66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or activity (60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ibitor activity (90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Fun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ntraontology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59280" y="2259000"/>
            <a:ext cx="3071880" cy="3282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3092400" cy="120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-ontology Links BP-&gt;M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32440" y="1600200"/>
            <a:ext cx="3730680" cy="510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3092400" cy="120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-ontology Links MF-&gt;B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3092400" cy="120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284720" y="2427120"/>
            <a:ext cx="3957480" cy="290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390240" y="5410080"/>
            <a:ext cx="775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ar functions that always occur in a single type of biological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a part of that biological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ure of Biological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products execute molecular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ons of functions can be regulatory (ex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tease inhibitor ac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r can take part in regulatory biological processes (ex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GF be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eptor ac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Beginning, There Were Two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_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re Were Also  ‘Regulation’ Ter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93432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made the ‘regulation of X’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art_o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‘X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438800" cy="20192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4952880" y="3809880"/>
            <a:ext cx="1371600" cy="6098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5791320" y="4495320"/>
            <a:ext cx="3808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55760" y="5791320"/>
            <a:ext cx="32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it’s not real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rt_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not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art_o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ion of X =  “Any process that modulates the frequency, rate or extent of X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cess can regulate X without being an integral part of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ed ‘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regul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4038480"/>
            <a:ext cx="42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kinds types of regulation were described by the original regulation terms in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[i] regulation of biolog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[i] regulation of biological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[i] regulation of molec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a- and Inter-ontology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5638680" cy="2311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7320" y="1523880"/>
            <a:ext cx="898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rrents can regulate oc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rrent = biological process OR (execution of a) molecular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require any additional relationship types (like has_part, for ins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MP Signaling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441043" r="0" b="0"/>
          <a:stretch/>
        </p:blipFill>
        <p:spPr>
          <a:xfrm>
            <a:off x="380880" y="2268360"/>
            <a:ext cx="3581640" cy="3446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038480" y="4114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76400" y="990720"/>
            <a:ext cx="70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ological objective of BMP signaling is to regulate tran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3640" y="179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3716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0" t="2957" r="0" b="0"/>
          <a:stretch/>
        </p:blipFill>
        <p:spPr>
          <a:xfrm>
            <a:off x="5173560" y="1523880"/>
            <a:ext cx="2522520" cy="4997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16:51:35Z</dcterms:created>
  <dc:creator>Tanya Berardini</dc:creator>
  <dc:description/>
  <dc:language>en-US</dc:language>
  <cp:lastModifiedBy>Iry Witham</cp:lastModifiedBy>
  <dcterms:modified xsi:type="dcterms:W3CDTF">2008-05-19T17:17:15Z</dcterms:modified>
  <cp:revision>9</cp:revision>
  <dc:subject/>
  <dc:title>The ‘regulates’ relationships</dc:title>
</cp:coreProperties>
</file>